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B7244-2065-4FA5-8E62-A7F829CF4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B3730-F4CC-4119-AC27-7847D704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54D1C-5AB5-478E-B52D-B5A0F176B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19F70-5800-4333-8EA7-15FB442F9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D7FA54-D051-403E-A0CF-C6FDF296B73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50467-1CD0-41D6-82A8-8A501719C5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FE88A-AF83-44CF-8EBF-BD1B7BC74E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72955-4AB6-4D7C-8E0A-13D60840B0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DE3F6B-1F50-40A9-875D-8F92D1CF12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2BB843-3C4B-4BB7-B3AE-44F5B06671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821DE-AE24-459C-8883-2F1A663B37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9F82A-E8E5-4BF2-80E3-A18213953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98CB3-4289-4AA7-8DC3-023484A64B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B9AB9-A32E-4362-8A2E-62CBFEDAD8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E5F548-E510-4C25-A22A-EDD7E02EAF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8A9789-D2B4-444E-AE63-C5DE3F3547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468B04-0628-4035-B5E9-D938A1159E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F184B-812E-43F5-BD6C-B926D575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D156C-1E23-460A-990C-AB848BF6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C27A9-A4A6-452F-AE1B-328A7C313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BA946-0313-4961-894F-8D70B9E8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97B7-2C68-4F11-A6A3-2828DE8F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BA40-8FF0-4F17-A7C7-5AA5E9F0F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C255D-B769-4E1B-B5CA-050EE0BC0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F9A9-96A9-4838-8809-E5A5EA09F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75D1-7F6A-4A3E-A151-6842B5D24A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98100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İLİMSEL DENETİM MODELİ</a:t>
            </a:r>
            <a:endParaRPr b="0" lang="en-US" sz="4400" spc="-1" strike="noStrike">
              <a:solidFill>
                <a:srgbClr val="ffffff"/>
              </a:solidFill>
              <a:latin typeface="Tahoma"/>
            </a:endParaRPr>
          </a:p>
        </p:txBody>
      </p:sp>
      <p:sp>
        <p:nvSpPr>
          <p:cNvPr id="84" name="PlaceHolder 2"/>
          <p:cNvSpPr>
            <a:spLocks noGrp="1"/>
          </p:cNvSpPr>
          <p:nvPr>
            <p:ph type="subTitle"/>
          </p:nvPr>
        </p:nvSpPr>
        <p:spPr>
          <a:xfrm>
            <a:off x="125892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ZIRLAYANLA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RHAK TUN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KADDES ERCA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79280" y="260280"/>
            <a:ext cx="8964720" cy="6408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Columbia Üniversitesi Profesörlerinden </a:t>
            </a:r>
            <a:r>
              <a:rPr b="1" lang="tr-TR" sz="3200" spc="-1" strike="noStrike">
                <a:solidFill>
                  <a:srgbClr val="ffffff"/>
                </a:solidFill>
                <a:latin typeface="Tahoma"/>
              </a:rPr>
              <a:t>James Hosic</a:t>
            </a:r>
            <a:r>
              <a:rPr b="0" lang="tr-TR" sz="3200" spc="-1" strike="noStrike">
                <a:solidFill>
                  <a:srgbClr val="ffffff"/>
                </a:solidFill>
                <a:latin typeface="Tahoma"/>
              </a:rPr>
              <a:t> bu yaklaşıma itiraz etmişti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rgüt tuğla örmek gibi ve aynı biçimde yönlendirilemez.</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Eğitimde, denetimin işlevi, bütün planları gerçekleştirmek ve bütün standartların işletilmesi ve bunların yalnızca çalışanlara bildirilmesi değildi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enetici konferans verircesine emirler yağdırmamalıdı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omite başkanı ya da danışma uzmanı olmalıdır.</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640" y="1052280"/>
            <a:ext cx="8136000" cy="532908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Eliot “Denetimin; neyin ,ne zaman, kim tarafından, nasıl ve hangi amaçla yapılması gerektiğinin düşünülmesini” belirtmiştir.</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ğitimde her şey önceden planlanmalıdır.</a:t>
            </a:r>
            <a:endParaRPr b="0" lang="en-US" sz="4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360"/>
            <a:ext cx="8964720" cy="65977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arr deneticinin ne bilmesi gerektiğine ilişkin olarak şu görüşleri ortaya koymuştur.</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       </a:t>
            </a:r>
            <a:r>
              <a:rPr b="1" i="1" lang="tr-TR" sz="3200" spc="-1" strike="noStrike">
                <a:solidFill>
                  <a:srgbClr val="ffffff"/>
                </a:solidFill>
                <a:latin typeface="Tahoma"/>
              </a:rPr>
              <a:t>Denetici;</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 </a:t>
            </a:r>
            <a:r>
              <a:rPr b="0" lang="tr-TR" sz="3200" spc="-1" strike="noStrike">
                <a:solidFill>
                  <a:srgbClr val="ffffff"/>
                </a:solidFill>
                <a:latin typeface="Tahoma"/>
              </a:rPr>
              <a:t>Analiz etme yeteneğine sahip olmalı </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Kalitesiz sonuçlara yol açan nedenleri saptayabilmelidir.</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Veri toplama araçlarını belli bir düzen içinde kullanma yeterliliğini kazanmalıdır.</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Öğretmenlerin nasıl öğreteceklerini bilmelerini sağlamalıdırlar </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ğretmenlerin nasıl öğrendiklerini bilmeli ve değerlendirme becerilerini kazanmalıdırlar.</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404640"/>
            <a:ext cx="8424720" cy="58327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930-1050 yılları arasında sınıf gözlemlerine dayalı olarak denetlemenin öğretimi iyileştirmede etkili olacağı üzerinde duruldu.</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ğretimi iyileştirmenin aracı olarak,Stevens’in önemli buluşlarından ‘stenografik raporların’kullanılması önem kazandı.</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tevens öğretimi iyileştirmenin en iyi yolunun eleştiri ve yorum olmaksızın,gerçek ders ortamının kaydedilmesi olduğunu savunuyor.</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836280"/>
            <a:ext cx="7834320" cy="50007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Bu çağın deneticilerine göre öğretimi iyileştirmenin yolu,bilimsel denetimden geçiyor.Bu iyileştirme öğretmenin </a:t>
            </a:r>
            <a:r>
              <a:rPr b="1" lang="en-US" sz="4000" spc="-1" strike="noStrike">
                <a:solidFill>
                  <a:srgbClr val="ffffff"/>
                </a:solidFill>
                <a:latin typeface="Tahoma"/>
              </a:rPr>
              <a:t>9</a:t>
            </a:r>
            <a:r>
              <a:rPr b="0" lang="en-US" sz="4000" spc="-1" strike="noStrike">
                <a:solidFill>
                  <a:srgbClr val="ffffff"/>
                </a:solidFill>
                <a:latin typeface="Tahoma"/>
              </a:rPr>
              <a:t> alanda yer alan etkinlikleri yerine getirmesi ile gerçekleşir.</a:t>
            </a:r>
            <a:endParaRPr b="0" lang="en-US" sz="4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360"/>
            <a:ext cx="8964720" cy="66690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anılama:</a:t>
            </a:r>
            <a:r>
              <a:rPr b="0" lang="en-US" sz="2800" spc="-1" strike="noStrike">
                <a:solidFill>
                  <a:srgbClr val="ffffff"/>
                </a:solidFill>
                <a:latin typeface="Tahoma"/>
              </a:rPr>
              <a:t>Genel amaçların tanımlanması</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Özel amaçlar:</a:t>
            </a:r>
            <a:r>
              <a:rPr b="0" lang="en-US" sz="2800" spc="-1" strike="noStrike">
                <a:solidFill>
                  <a:srgbClr val="ffffff"/>
                </a:solidFill>
                <a:latin typeface="Tahoma"/>
              </a:rPr>
              <a:t>Günlük ders amaçlarının belirlenmesi</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klenti oluşturma:</a:t>
            </a:r>
            <a:r>
              <a:rPr b="0" lang="en-US" sz="2800" spc="-1" strike="noStrike">
                <a:solidFill>
                  <a:srgbClr val="ffffff"/>
                </a:solidFill>
                <a:latin typeface="Tahoma"/>
              </a:rPr>
              <a:t>Dikkatin toplanması, hazır bulunuşluğu geliştirme</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gılanan amaç:</a:t>
            </a:r>
            <a:r>
              <a:rPr b="0" lang="en-US" sz="2800" spc="-1" strike="noStrike">
                <a:solidFill>
                  <a:srgbClr val="ffffff"/>
                </a:solidFill>
                <a:latin typeface="Tahoma"/>
              </a:rPr>
              <a:t>Öğrencilere amaçların açıklanması</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Öğrenme fırsatları:</a:t>
            </a:r>
            <a:r>
              <a:rPr b="0" lang="en-US" sz="2800" spc="-1" strike="noStrike">
                <a:solidFill>
                  <a:srgbClr val="ffffff"/>
                </a:solidFill>
                <a:latin typeface="Tahoma"/>
              </a:rPr>
              <a:t> Öğrencilere fırsat yaratma</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del geliştirme:</a:t>
            </a:r>
            <a:r>
              <a:rPr b="0" lang="en-US" sz="2800" spc="-1" strike="noStrike">
                <a:solidFill>
                  <a:srgbClr val="ffffff"/>
                </a:solidFill>
                <a:latin typeface="Tahoma"/>
              </a:rPr>
              <a:t>Neyin öğrenilmiş olması gerektiğine ilişkin olarak hem sözel hem de görsel örnekler sunmak.</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lamanın kontrol edilmesi:</a:t>
            </a:r>
            <a:r>
              <a:rPr b="0" lang="en-US" sz="2800" spc="-1" strike="noStrike">
                <a:solidFill>
                  <a:srgbClr val="ffffff"/>
                </a:solidFill>
                <a:latin typeface="Tahoma"/>
              </a:rPr>
              <a:t>Öğrencilerin amaçlara ulaşma düzeyinin değerlendirilmesi</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ılavuzlu uygulama:</a:t>
            </a:r>
            <a:r>
              <a:rPr b="0" lang="en-US" sz="2800" spc="-1" strike="noStrike">
                <a:solidFill>
                  <a:srgbClr val="ffffff"/>
                </a:solidFill>
                <a:latin typeface="Tahoma"/>
              </a:rPr>
              <a:t>Öğrencilere kılavuzluk yapma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ağımsız uygulama:</a:t>
            </a:r>
            <a:r>
              <a:rPr b="0" lang="en-US" sz="2800" spc="-1" strike="noStrike">
                <a:solidFill>
                  <a:srgbClr val="ffffff"/>
                </a:solidFill>
                <a:latin typeface="Tahoma"/>
              </a:rPr>
              <a:t> Öğrencilere yeni kazandıkları becerileri uygulama fırsatı verme</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Bilimsel Denetime Eleştirel Bakış</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imsel denetim,bir işin doğru yolunu göstermesi ve gizil amaçlara hizmet etmemesi nedeniyle destek görmüştür.Ancak öğrenci- öğretmen etkileşiminin denetlenmesinden öteye gidemediği için eleştirilmiştir.</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imsel denetim,otoriter bir denetimi temsil etmektedir.Önceden belirlenen öğretimsel amaçlara ulaşılıp ulaşılmadığını,denetici ile çalışan arasında kesin çizgiler koyan bir anlayışa sahip.</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tlaşmış bir öğretmen modeli ortaya çıkarırken,öğretmenliği sıkıcı ve anlamsız hale getirmiştir.</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836640"/>
            <a:ext cx="7632720" cy="447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ilimsel yönetim anlayışı, bir işin doğru ve verimli yapılabilmesi için, işi yapanın denetlenmesi gereğini vurgular. Eğitim bir hizmettir ve eğitimciler tarafından belirli kurumlarda gerçekleştirilir. Bilimsel yönetim anlayışına göre, eğitimde iş görenler olan öğretmenler ve okul yöneticileri, verdikleri hizmet ile ilgili olarak yakından denetlenmelidir</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900000" y="981000"/>
            <a:ext cx="755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mel aldığı felsefi görüşe göre ortaya çıka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980’li yıllara kadar ‘Bilimsel Yönetim’ anlayışının beslediği denetim anlayışı, iş görenin önceden belirlenen standartlara göre yeterli veya yetersiz biçiminde değerlendirilmesinden ibaretti.</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ylor’un ‘Bilimsel Yönetim İlkeleri’</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 görevi en iyi yapmayı sağlayacak yolun tanımlanması ve uygulanması</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 işin planlamasının,uygulamasından ayrılması</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ans ile ödemenin doğrudan ilişkili olması</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Raymond Villers’in,Taylor’un Bakış Açısına Yorumu</a:t>
            </a:r>
            <a:endParaRPr b="0" lang="en-US" sz="4000" spc="-1" strike="noStrike">
              <a:solidFill>
                <a:srgbClr val="ffffff"/>
              </a:solidFill>
              <a:latin typeface="Tahoma"/>
            </a:endParaRPr>
          </a:p>
        </p:txBody>
      </p:sp>
      <p:sp>
        <p:nvSpPr>
          <p:cNvPr id="90"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an-hareket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ça-oran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lama ile performansın ayrılığı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önetim-kontrol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levsellik ilkesi</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79280" y="259920"/>
            <a:ext cx="8640720" cy="626436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Bilimsel yöntem,dikkatli bir gözlem ve iş analizine dayanır.</a:t>
            </a:r>
            <a:br>
              <a:rPr sz="3600"/>
            </a:br>
            <a:r>
              <a:rPr b="0" lang="en-US" sz="3600" spc="-1" strike="noStrike">
                <a:solidFill>
                  <a:srgbClr val="ffffff"/>
                </a:solidFill>
                <a:latin typeface="Tahoma"/>
              </a:rPr>
              <a:t>Bilimsel  yöntemin reçetesi;</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 iyi yolu belirle</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aştırmaya dayalı bir çalışma sistemi geliştir</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şçilerin beklentilerini öğren</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şçileri sistem içinde yetiştir</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şçilerin uyumunu geliştir ve değerlendir</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188640"/>
            <a:ext cx="8893080" cy="633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     </a:t>
            </a:r>
            <a:r>
              <a:rPr b="0" lang="tr-TR" sz="4000" spc="-1" strike="noStrike">
                <a:solidFill>
                  <a:srgbClr val="ffffff"/>
                </a:solidFill>
                <a:latin typeface="Tahoma"/>
              </a:rPr>
              <a:t>Taylor,bilimsel denetim üzerinde dururken Weber,etkililik ve verimliliği artırmak için örgütte ‘Bürokratik Model’i öne sürmüştür.</a:t>
            </a:r>
            <a:br>
              <a:rPr sz="4000"/>
            </a:br>
            <a:r>
              <a:rPr b="0" lang="tr-TR" sz="4000" spc="-1" strike="noStrike">
                <a:solidFill>
                  <a:srgbClr val="ffffff"/>
                </a:solidFill>
                <a:latin typeface="Tahoma"/>
              </a:rPr>
              <a:t>     En üst yöneticiden en alt basamağa kadar yetki ve sorumluluk sağlamıştır.</a:t>
            </a:r>
            <a:br>
              <a:rPr sz="4000"/>
            </a:br>
            <a:r>
              <a:rPr b="0" lang="tr-TR" sz="4000" spc="-1" strike="noStrike">
                <a:solidFill>
                  <a:srgbClr val="ffffff"/>
                </a:solidFill>
                <a:latin typeface="Tahoma"/>
              </a:rPr>
              <a:t>    Bütün insan örgütlerini kapsayan bir örgütsel yapı sağlamıştır.</a:t>
            </a:r>
            <a:endParaRPr b="0" lang="en-US" sz="4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99640" y="1844640"/>
            <a:ext cx="7037640" cy="446400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Lucio ve McNeil göre öğretim bir sanat değil,bir bilimdir.</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Franklin Bobitt örgütsel amaçların başarılması için yönetimde, </a:t>
            </a:r>
            <a:r>
              <a:rPr b="1" lang="tr-TR" sz="3200" spc="-1" strike="noStrike">
                <a:solidFill>
                  <a:srgbClr val="ffffff"/>
                </a:solidFill>
                <a:latin typeface="Tahoma"/>
              </a:rPr>
              <a:t>yönlendirme ve denetimin</a:t>
            </a:r>
            <a:r>
              <a:rPr b="0" lang="tr-TR" sz="3200" spc="-1" strike="noStrike">
                <a:solidFill>
                  <a:srgbClr val="ffffff"/>
                </a:solidFill>
                <a:latin typeface="Tahoma"/>
              </a:rPr>
              <a:t> gerekli olduğunu ortaya koymuştu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Denetim elemanları bütün çalışanları eşgüdümlemeli, işin en iyi yöntemlerini bulmalı, çalışanların bu yöntemleri kullanmaları için teşvik edilmeleri sağlanmalıdı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1" lang="tr-TR" sz="3200" spc="-1" strike="noStrike">
                <a:solidFill>
                  <a:srgbClr val="ffffff"/>
                </a:solidFill>
                <a:latin typeface="Tahoma"/>
              </a:rPr>
              <a:t>Denetimde asıl amaç kabul edilebilir öğretim davranışlarının korunması ve bu davranışların etkili bir biçimde yerine getirilmesinin sağlanmasıdı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10:53Z</dcterms:created>
  <dc:creator>admin</dc:creator>
  <dc:description/>
  <dc:language>en-US</dc:language>
  <cp:lastModifiedBy>admin</cp:lastModifiedBy>
  <dcterms:modified xsi:type="dcterms:W3CDTF">2010-10-17T21:36:56Z</dcterms:modified>
  <cp:revision>4</cp:revision>
  <dc:subject/>
  <dc:title>BİLİMSEL DENETİM MODELİ</dc:title>
</cp:coreProperties>
</file>